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9F2-5CFC-4A92-AC99-1C4465B4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14A-9DAF-4981-8F7E-8B8E2F2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80C-AA1C-476D-AB89-C130465F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DD7-B739-4AE1-B3CF-71621C9C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525-AEE4-4E4A-8871-EFE93506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7FE-DAED-4CC8-BA08-E901A471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6C5-E3EC-43F2-9BDE-77474C7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E6D-B551-4E66-940F-94FA80F2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93F-08B8-4725-80B7-237B2020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919-7B01-47D0-A872-784B511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EC9-FC2E-4FBA-8987-99C21131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D29-A7B1-4F8B-90A3-76A493E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2660-A5B6-4949-AF15-5E381B77CEA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4 Sociology 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332000" y="1319040"/>
            <a:ext cx="64800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ymbolic Interactionists believe humans have complex brains and little instinctiv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means they can interpret for themselves the stimuli they receive in their daily life and attach their own meanings to them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g. One person might pursue fame and fortune  while a sibling might dedicate his or her life to charitable work in a developing coun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t is essentially how we as individuals process and interpret what we observe in society, not society’s institutions, that form the core of our value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this reason, Symbolic Interactionists focus their research on the human mind rather than on structures in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eminist Theorists focus on sex and gender issues, believing that women have traditionally been disadvantaged in society because men have discriminated agains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believe that men have made the decisions in society and that they tend to favour 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beral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Liberal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or “Bourgeois”)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 Feminism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in which the claim of women for equal rights is seen in the context of a general opposition to various forms of oppression and discrimination, independently of other political conviction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beral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beral feminism tends to emphasize social policy to open up professional, better-paid and prestigious jobs to women and the elimination of laws discriminating against the political, property and social rights of wo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xian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rxian Feminists believe that women’s unpaid  and undervalued domestic work has made it possible for industrial owners to pay lower wages to male workers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also believe that the continuation of lower paid jobs has enabled the dominant class (the capitalists) to retains their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adical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dical Feminists believe that their natural child bearing role has led to a systematic oppression by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y believe they live in a patriarchal society in which men dominate most of the institutions and are so entrenched that women cannot break in to these f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116000" y="590400"/>
            <a:ext cx="740268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chools of Thought in Soc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ists have debated among themselves about the real nature of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societies change and become more diverse sociologists need to consider cultural diversity when considering sociologica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alist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alist Feminists try to separate issues of oppression that are the result of the patriarchy which is a result of capitalis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capitalism were overthrown, to what extent would female oppression contin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clu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lusionists recognized that conflict could take place in a society between ethnic, racial and religious groups as well as between economic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fore WWII, most sociologists took an assimilationist view of race believing the cultural majority would eventually absorb the minority (melting p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clu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late 1960s however, changing immigration policies changed all this as large numbers of immigrants moved to places like Canada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g 34-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55164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ructural-Func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ccording to structural-functionalism, each society should provide its members with the fundamental requirements for functio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system must have a way of fulfilling material needs, a system for socializing and educating the young, a way of regulating human reproduction (usually marriag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ructural-Func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ructural-Functionalists believe their role is to try to explain the role of society’s systems in enabling human society to 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ructural-Functionalists do not concern themselves with change but instead with how society works to meet their n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6120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eo-Marx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sed on ideas originally proposed by Karl Marx (1818-188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rx believed that economic power led to political power.  This is the key to understanding soc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eo-Marx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truggle for economic power means that society is not static but ever-changing – social change is the result of a change made to the economic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fore, if we want to understand society, we must understand the economic system in p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eo-Marx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eo-Marxists believe the economic system creates a rich class of owners and a poor class of wor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also believe that social institutions (churches, schools, prisons etc.) have been created to perpetuate the division between the powerful and the power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45:13Z</dcterms:created>
  <dc:creator>Jason</dc:creator>
  <dc:description/>
  <dc:language>en-US</dc:language>
  <cp:lastModifiedBy>Jason</cp:lastModifiedBy>
  <dcterms:modified xsi:type="dcterms:W3CDTF">2010-09-15T19:18:53Z</dcterms:modified>
  <cp:revision>4</cp:revision>
  <dc:subject/>
  <dc:title>1.4 Sociology Part II</dc:title>
</cp:coreProperties>
</file>